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604-A06F-4A17-B117-20C8E181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028-A6A0-49F5-A47C-1B8085E2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B10-02E4-456B-A21F-C3100564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58B-6FFB-4B4C-9FAF-943934F4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014-A087-4C7F-B398-318DE23C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263-37AB-4441-A794-C345FA1A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76D-C608-4BBC-A605-4C6E3876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B11-AA4D-4703-B8E2-B09F0665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22B-E504-4951-8DAB-883C5DD7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A50-8064-4227-B464-26E79DF2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05B-946A-4B1C-A52B-0FCF3B4A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E17-AE55-4E22-B19F-1E4BB4A7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F97B-38CF-4C8D-983B-EF0D9B663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hyperlink" Target="http://bensguide.gpo.gov/3-5/state/southcarolina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426708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n Monday, September 20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380880" y="426708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495680"/>
            <a:ext cx="266688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uth Carolina 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7/201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50sta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apital: Colu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4,012,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union: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ay 23, 17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 Name: palmetto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Yellow Jess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Great Carolina w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To see nor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94480" y="0"/>
            <a:ext cx="1649520" cy="2593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2068560" cy="217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43800" y="2590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Facts: In South Carolina they have a amethyst. Amethyst is a wonderful adorable purple gemstone in south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4267080" cy="2431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5880" y="4114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486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South Carolina: Map and State Flag"/>
          <p:cNvPicPr/>
          <p:nvPr/>
        </p:nvPicPr>
        <p:blipFill>
          <a:blip r:embed="rId1"/>
          <a:srcRect l="0" t="0" r="0" b="53736"/>
          <a:stretch/>
        </p:blipFill>
        <p:spPr>
          <a:xfrm>
            <a:off x="0" y="0"/>
            <a:ext cx="594360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South Carolina: Map and State Flag"/>
          <p:cNvPicPr/>
          <p:nvPr/>
        </p:nvPicPr>
        <p:blipFill>
          <a:blip r:embed="rId2"/>
          <a:srcRect l="1430" t="48784" r="7150" b="4077"/>
          <a:stretch/>
        </p:blipFill>
        <p:spPr>
          <a:xfrm>
            <a:off x="4267080" y="3048120"/>
            <a:ext cx="487692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0" y="3657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105520"/>
            <a:ext cx="5105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South Carolin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2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southcarolin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594360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867280"/>
            <a:ext cx="37339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card from America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Capitol, Columbia, SC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23, 2010, http://www.postcardsfrom.com/t1/000320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94216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South Carolina’s capital building. This is located in Columbia in South Caroli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477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696080" y="5790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© 2000 WriteLine. Palmetto"/>
          <p:cNvPicPr/>
          <p:nvPr/>
        </p:nvPicPr>
        <p:blipFill>
          <a:blip r:embed="rId2"/>
          <a:stretch/>
        </p:blipFill>
        <p:spPr>
          <a:xfrm>
            <a:off x="3809880" y="4667400"/>
            <a:ext cx="1847880" cy="2190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867280" y="52578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5029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525780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 from America, Angel Oak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ohns Is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C,9/23/2010, http://www.postcardsfrom.com/t1/00032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724280"/>
            <a:ext cx="2438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 from America, Palmetto,9/23/2010, http://www.postcardsfrom.com/stamp/stamp-s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49528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981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tree is 65 feet t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257800"/>
            <a:ext cx="12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almetto south Carolina’s nick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0Z</dcterms:created>
  <dc:creator>install</dc:creator>
  <dc:description/>
  <dc:language>en-US</dc:language>
  <cp:lastModifiedBy>install</cp:lastModifiedBy>
  <dcterms:modified xsi:type="dcterms:W3CDTF">2010-10-14T13:20:53Z</dcterms:modified>
  <cp:revision>14</cp:revision>
  <dc:subject/>
  <dc:title>Slide 1</dc:title>
</cp:coreProperties>
</file>